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D87-5105-4860-86E9-BD43731F4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AC29-2E9D-43AB-9598-7CE950E0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F857-866D-45F1-B0FC-FCB547C96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0A6E-42C2-4460-B626-634025A1B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CC8FD-4AD1-427D-B497-7506122CB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EEA30-4CA0-40EF-8B0F-5AF931E5E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0B692-A4B9-4C6F-A075-0910AD461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FCD3-159C-442E-8ED4-1406E466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3083-4513-4AD5-9E63-AA208FA8A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26BB-1C04-42D5-B6F1-72718632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BE1C-EFB1-482E-A025-AD9E5179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5D97-E94A-4BD4-B910-3427FA76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CCBE-50D3-49CF-8710-07B39A3C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2F1D-0FE5-446D-8EB7-4002BD5A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94B7-1EF6-438B-A9F2-31291A20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DFA7-DA03-4D92-8EB1-5B0D5F8E0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72FB-7DC8-4F44-9340-A4C8F334C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3584-538D-47D5-9DA8-5E9774AA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F095-6675-4C32-ABE8-8ADBFCADE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15D4-7C75-4E70-920E-71FE557F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DB2B-65BA-49F5-8723-D3CE76B71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A4EE-2900-4F94-ABB3-9338E89B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2AED-BFF9-44C6-B8EB-8A9A1AB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B43-749D-4295-9FD0-4C592E0D9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EC521-BA9B-474C-95E6-874929A84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1F4D-486D-46FC-8BA9-DF5BF90C7C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000000">
                <a:alpha val="75000"/>
              </a:srgbClr>
            </a:outerShdw>
          </a:effectLst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Date Placeholder 3"/>
          <p:cNvSpPr/>
          <p:nvPr/>
        </p:nvSpPr>
        <p:spPr>
          <a:xfrm>
            <a:off x="304920" y="6245280"/>
            <a:ext cx="228600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>
                <a:alpha val="7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First Wav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_x0010_It’s is possible that nations such as Kirkbati _x0010_may have already reached a tipping point because of the long delay involved in  reducing greenhouse gas level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ヒラギノ角ゴ Pro W3"/>
              </a:rPr>
              <a:t>-- Andr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37:08Z</dcterms:created>
  <dc:creator>PA Department of Education</dc:creator>
  <dc:description/>
  <dc:language>en-US</dc:language>
  <cp:lastModifiedBy>PA Department of Education Classrooms for the Future</cp:lastModifiedBy>
  <dcterms:modified xsi:type="dcterms:W3CDTF">2009-05-29T18:16:17Z</dcterms:modified>
  <cp:revision>4</cp:revision>
  <dc:subject/>
  <dc:title>Something  </dc:title>
</cp:coreProperties>
</file>